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3F5-3151-42CD-8756-07C88EE6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72B-D248-4356-BCBF-1FDE05CA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310-EDFA-4BBE-BE45-12D7B54E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270E-705D-4BFC-BE4D-05961AA4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B8C-25C9-4175-887C-00C2E90D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B8F-9361-4ED6-A80E-AD16AA25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4BB-824E-4E4B-9AE3-8FCE3FE8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2FA-08C6-4091-8EF0-F7A7F6D5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D67F-A29C-41D3-A787-EFCC02E0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D87-9277-4491-80E6-A437CC03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7FB1-ACCA-402B-B273-54795802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7E5-5D0E-46A2-8A6F-E120C2FC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F418-73D5-488B-A61D-73AFD2BB0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ext.wav" TargetMode="External"/><Relationship Id="rId2" Type="http://schemas.microsoft.com/office/2007/relationships/media" Target="file:///tmp/home/.config/libreoffice/4/user/gallery/next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rst-Order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Communica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-Order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Moore, Halpern et al., Leves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world ≡ temporal situation ≡ a possible way the world could be at an i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_acc(A,SA,SB) – As far as A knows in SA, the world could be 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ows φ in S – Every SA accessible from S satisfies 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425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knowled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holds(SA,on(x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no one knows who killed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exists(A1,A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B) k_acc(A1,SA,SB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SB1,SB2) SB2 &lt; SB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2,kill(jr)),SB1,SB2)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350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and A2 have shared knowledge of φ if they each know φ, they know that the other one know i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1,A2,SA,SB) – SB is accessible from SA relative to the shared knowledge of A1,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ve closure of k_acc(A1..), k_acc(A2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3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communicate(AH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inform(AH,Q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lized fluent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roperty of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001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on(x,y))),s0,s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there is a red block o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X) red(X) ^ block(X) ^holds(S,on(X,y))]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Q)),s0,s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11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Sam who killed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Q,A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3,S4) S4&lt;S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K,kill(jr)), S3,S4)]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john,inform(sam,Q)),s0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0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tells Bob he has never told her anything she didn’t already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Q1,S2,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ccurs(do(bob,inform(alice,Q1)),S2,S3)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&lt; S]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2A) k_acc(alice,S2,S2A)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(S2A,Q1)]]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(do(alice,inform(bob,Q)),s0,s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205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axiom: There is a fluent for every property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 is any formula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ists(Q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S can communicate with AH, then AS can tell AH anything AS kn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sible(do(AS,communicate(AH)),S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easible(do(AS,inform(AH,Q)),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orall(SA) k_acc(AS,S,SA) =&gt; holds(SA,Q)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70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informs AH of Q, then they have shared knowledge that AS has informed AH of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ccurs(do(AS,inform(AH,Q)),S1,S2)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S,AH,S2,S2A)]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A) occurs(do(AS,inform(AH,Q)),S1A,S2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975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S and AH have shared knowledg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ct of AS informing AH that Q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s the act of informing AH that Q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S,inform(AH,Q)),S1,S2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ccurs(do(AS,inform(AH,Q1)),S1,S2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1A) sk_acc(AS,AH,S1,S1A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olds(S1A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(S1A,Q)]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824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pologies for not being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: NSF for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ra Morgenstern f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-Anne Williams and Stu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lping with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5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tells AH something which is fals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that AS finishes speaking, then 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nd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 tells Bob that the light is on, while turning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Bob that Bob is mi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50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of 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dox relies on the unique-names assumption that we have rej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not only informed Bob that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isled. He has also informed Bo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is misled and this is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ituation”, which is certainly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7236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xpected 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udge tells a prisoner: You will be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on within the next 30 days, b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know that morning that you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am alive on the morning of th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must hang me no later than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I am alive on the morning of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44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lution to Unexpected 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resentation of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, only wh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.  And the judg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ou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o tell him that he will be hung o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ossible worlds structure in which the judge knows that his declaration is true whatever he (judge) chooses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6140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 that the next paradox won’t clobber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theorem: The axioms of knowledge and communication are consistent with just about any reasonable physical theory over discrete time, satisfying certain complex but non-restrictiv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633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genstern (1988): Syntactic theory of knowledge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Perrault: BDI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ogic (Plaza, 1989; van Benthem 2003) – Communication as dynamic modal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ek et al. (1997): Modal operators B(P), 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475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valu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(A,Q) – Function from fluent to fl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Davis and Morgenstern, in 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tionary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331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ing about Knowled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Communi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knows it will be sunny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 knowledge that, if it is sun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Bob can play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an communicate with 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Sam knows that there is something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at will cause Bob to know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be able to play tennis on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75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8754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tells Alice that he has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swers that Bob has never t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she didn’t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Bob now knows that Alice already knew before he spoke that he had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5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nguage that can describe time, action, 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power of first-orde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an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25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of th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st-order language of time, action,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ommunication about past, present, and future; knowledge and ignorance; other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that supports inferences such as the two starting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ably consistent with a wide range of causal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125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254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ime, action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axiom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00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3004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, branch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Dermott’s temporal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 &lt; S2 – Situation S1 precedes S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(S,Q) – Fluent Q holds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E,S1,S2) – Action E occur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[S1,S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(E,S)  -- Action E is feasible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500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us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,puton(X,Y)),S1,S2) =&gt;               holds(S2,on(X,Y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feasible in S iff E occurs over [S,S1] where S1 follows S on some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(E,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) occurs(E,S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95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21:45:34Z</dcterms:created>
  <dc:creator>davise</dc:creator>
  <dc:description/>
  <dc:language>en-US</dc:language>
  <cp:lastModifiedBy>davise</cp:lastModifiedBy>
  <dcterms:modified xsi:type="dcterms:W3CDTF">2004-05-26T16:31:07Z</dcterms:modified>
  <cp:revision>6</cp:revision>
  <dc:subject/>
  <dc:title>A First-Order Theory of Communicating First-Order Formulas</dc:title>
</cp:coreProperties>
</file>